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4FB-5BE8-4E3A-B811-4C974794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33D-3C0C-49E7-96D6-F2812B06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4A9-CE3C-44EF-A489-998BE81E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034-C5B6-4DBA-9D4F-9900A023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F13B-405A-4674-9E3A-18CDF859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92A-6D55-4F1A-B4D1-67127FD7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CBC-C371-4C48-AF62-BBE80EE3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442-6967-4FB8-BDDB-80494E49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090-955A-4D8C-954B-8533EE45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EEA-230B-4DC4-91E3-A6FC14C3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4C2-0403-40D9-92DB-F857BF43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E75-4B0B-465B-900D-33513978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2C1-6824-40BA-89AC-5C0045225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ektive, die die Kleidung beschreiben 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nnen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djectives that can describe cloth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40" y="11160"/>
          <a:ext cx="11201400" cy="6873840"/>
        </p:xfrm>
        <a:graphic>
          <a:graphicData uri="http://schemas.openxmlformats.org/drawingml/2006/table">
            <a:tbl>
              <a:tblPr/>
              <a:tblGrid>
                <a:gridCol w="1690560"/>
                <a:gridCol w="7526520"/>
                <a:gridCol w="198432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inherit"/>
                        </a:rPr>
                        <a:t>Far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inherit"/>
                        </a:rPr>
                        <a:t>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r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r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p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bl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hell-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bl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light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dunkel-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bl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dark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grü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ge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ye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wei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schwar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cccc"/>
                          </a:solidFill>
                          <a:latin typeface="inherit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057400" y="685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cript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-685800" y="175248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ön – pre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ässlich- ug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sch –sty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quem- comf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uer-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g-c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gestellt in…-produced in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-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rz-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-mo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lich-spo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-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ein-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52680" y="1676520"/>
            <a:ext cx="5791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malig- one of a 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ick  - fashi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t-colo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Baumwolle gemacht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co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Nylon gemacht-made of ny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-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-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big-colo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t-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Leder-l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Seide-s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tin-sa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wöhnlich-unu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057400" y="685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criptive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2286000"/>
            <a:ext cx="472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ll-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nkel-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ünn-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l-del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braucht-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mal-n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-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352680" y="1676520"/>
            <a:ext cx="5791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Flanell gemacht- made of fl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reift-stri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iert-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-t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r-l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ügelfrei-wrinkle re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leicht-eas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punktete- polka do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 Kord gemacht- cordu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mutzig-di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ber-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hat Flecken-It has 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hat Knöpfe-It has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0:12:49Z</dcterms:created>
  <dc:creator>Jo B. Wallace</dc:creator>
  <dc:description/>
  <dc:language>en-US</dc:language>
  <cp:lastModifiedBy>Owner</cp:lastModifiedBy>
  <dcterms:modified xsi:type="dcterms:W3CDTF">2012-02-25T14:47:36Z</dcterms:modified>
  <cp:revision>3</cp:revision>
  <dc:subject/>
  <dc:title>Adjektive, die Kleidung beschreiben können. (Adjectives that can describe clothing)</dc:title>
</cp:coreProperties>
</file>